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40C-84DC-4B14-B797-86838ECE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C01-7D87-4202-ACAA-BD79054C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965-1FC5-4F6D-B43C-7662933A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062-258D-4F1A-BAA1-41B05E9A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A0D-D1A8-44F1-AFAA-48EBFEDD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CC6-331F-4A2D-9B95-E8ED12AF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D77-3E77-400A-9912-5C98873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2E3-A809-4DFB-8AD5-643DBA42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FEB-3562-4F0C-873D-E8E064D3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1D9-79DC-4C0A-AC41-B8C6333E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12E-E791-4270-85D8-614F6E45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862-B117-4B6A-9013-E18EC519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68FA-3E5C-4EB6-9B52-286A31DCEDF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45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306360" y="114300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Tema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285840" y="2071800"/>
            <a:ext cx="7358040" cy="4057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Metabolismo de lípidos 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osíntesis de ácidos grasos saturados. Regulación. Requerimien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Desaturación de ácidos grasos. Acidos grasos esenci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Elongación de los Ácidos Grasos</a:t>
            </a:r>
            <a:br>
              <a:rPr sz="2900"/>
            </a:b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(de más de 16 C)</a:t>
            </a: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1714680" y="2492280"/>
            <a:ext cx="6000480" cy="510120"/>
          </a:xfrm>
          <a:prstGeom prst="rect">
            <a:avLst/>
          </a:prstGeom>
          <a:solidFill>
            <a:srgbClr val="fac09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–(C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 CO –</a:t>
            </a:r>
            <a:r>
              <a:rPr b="1" lang="es-ES" sz="2400" spc="-1" strike="noStrike">
                <a:solidFill>
                  <a:srgbClr val="4605e9"/>
                </a:solidFill>
                <a:latin typeface="Calibri"/>
              </a:rPr>
              <a:t>S-Co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(Ac Palmítico-</a:t>
            </a:r>
            <a:r>
              <a:rPr b="1" lang="es-ES" sz="2400" spc="-1" strike="noStrike">
                <a:solidFill>
                  <a:srgbClr val="4605e9"/>
                </a:solidFill>
                <a:latin typeface="Calibri"/>
              </a:rPr>
              <a:t>S-Co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2000160" y="5734080"/>
            <a:ext cx="5302440" cy="579600"/>
          </a:xfrm>
          <a:prstGeom prst="rect">
            <a:avLst/>
          </a:prstGeom>
          <a:solidFill>
            <a:srgbClr val="fac09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–(C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14+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-CO -</a:t>
            </a:r>
            <a:r>
              <a:rPr b="1" lang="es-ES" sz="2800" spc="-1" strike="noStrike">
                <a:solidFill>
                  <a:srgbClr val="4605e9"/>
                </a:solidFill>
                <a:latin typeface="Calibri"/>
              </a:rPr>
              <a:t>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2357280" y="4437000"/>
            <a:ext cx="19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"/>
          <p:cNvSpPr/>
          <p:nvPr/>
        </p:nvSpPr>
        <p:spPr>
          <a:xfrm>
            <a:off x="5357880" y="443700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alo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7"/>
          <p:cNvSpPr/>
          <p:nvPr/>
        </p:nvSpPr>
        <p:spPr>
          <a:xfrm rot="20845200">
            <a:off x="1101600" y="3492360"/>
            <a:ext cx="2019600" cy="107964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8"/>
          <p:cNvSpPr/>
          <p:nvPr/>
        </p:nvSpPr>
        <p:spPr>
          <a:xfrm rot="759600">
            <a:off x="6316200" y="3376440"/>
            <a:ext cx="2270160" cy="117504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t End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0"/>
          <p:cNvSpPr/>
          <p:nvPr/>
        </p:nvSpPr>
        <p:spPr>
          <a:xfrm>
            <a:off x="4643280" y="3429000"/>
            <a:ext cx="76320" cy="2016000"/>
          </a:xfrm>
          <a:prstGeom prst="downArrow">
            <a:avLst>
              <a:gd name="adj1" fmla="val 50000"/>
              <a:gd name="adj2" fmla="val 17414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9 CuadroTexto"/>
          <p:cNvSpPr/>
          <p:nvPr/>
        </p:nvSpPr>
        <p:spPr>
          <a:xfrm>
            <a:off x="513360" y="1071720"/>
            <a:ext cx="8049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longación por adición de </a:t>
            </a:r>
            <a:r>
              <a:rPr b="1" lang="es-ES_tradnl" sz="1800" spc="-1" strike="noStrike">
                <a:solidFill>
                  <a:srgbClr val="1801bf"/>
                </a:solidFill>
                <a:latin typeface="Calibri"/>
              </a:rPr>
              <a:t>restos de 2 C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tomando como precu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Acetil-CoA ó 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Calibri"/>
              </a:rPr>
              <a:t>Intervienen otras enzimas pero el mecanismo es idéntico a la síntesis de Palmi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alibri"/>
              </a:rPr>
              <a:t>El transportador de acilos es la </a:t>
            </a:r>
            <a:r>
              <a:rPr b="1" lang="es-ES_tradnl" sz="1800" spc="-1" strike="noStrike">
                <a:solidFill>
                  <a:srgbClr val="4605e9"/>
                </a:solidFill>
                <a:latin typeface="Calibri"/>
              </a:rPr>
              <a:t>HS-CoA</a:t>
            </a:r>
            <a:r>
              <a:rPr b="1" lang="es-ES_tradnl" sz="1800" spc="-1" strike="noStrike">
                <a:solidFill>
                  <a:srgbClr val="e46c0a"/>
                </a:solidFill>
                <a:latin typeface="Calibri"/>
              </a:rPr>
              <a:t> en lugar de P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6"/>
          <p:cNvGrpSpPr/>
          <p:nvPr/>
        </p:nvGrpSpPr>
        <p:grpSpPr>
          <a:xfrm>
            <a:off x="642960" y="2571840"/>
            <a:ext cx="6625800" cy="4092840"/>
            <a:chOff x="642960" y="2571840"/>
            <a:chExt cx="6625800" cy="4092840"/>
          </a:xfrm>
        </p:grpSpPr>
        <p:grpSp>
          <p:nvGrpSpPr>
            <p:cNvPr id="58" name="Group 13"/>
            <p:cNvGrpSpPr/>
            <p:nvPr/>
          </p:nvGrpSpPr>
          <p:grpSpPr>
            <a:xfrm>
              <a:off x="642960" y="2571840"/>
              <a:ext cx="6625800" cy="3960000"/>
              <a:chOff x="642960" y="2571840"/>
              <a:chExt cx="6625800" cy="3960000"/>
            </a:xfrm>
          </p:grpSpPr>
          <p:pic>
            <p:nvPicPr>
              <p:cNvPr id="59" name="Picture 10" descr="Escanear002"/>
              <p:cNvPicPr/>
              <p:nvPr/>
            </p:nvPicPr>
            <p:blipFill>
              <a:blip r:embed="rId1"/>
              <a:srcRect l="0" t="7088" r="0" b="79910"/>
              <a:stretch/>
            </p:blipFill>
            <p:spPr>
              <a:xfrm>
                <a:off x="642960" y="2571840"/>
                <a:ext cx="6625800" cy="114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1" descr="Escanear002"/>
              <p:cNvPicPr/>
              <p:nvPr/>
            </p:nvPicPr>
            <p:blipFill>
              <a:blip r:embed="rId2"/>
              <a:srcRect l="0" t="42561" r="0" b="25338"/>
              <a:stretch/>
            </p:blipFill>
            <p:spPr>
              <a:xfrm>
                <a:off x="642960" y="3713760"/>
                <a:ext cx="6625800" cy="281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Text Box 23"/>
            <p:cNvSpPr/>
            <p:nvPr/>
          </p:nvSpPr>
          <p:spPr>
            <a:xfrm>
              <a:off x="762480" y="3578040"/>
              <a:ext cx="166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Palmitoil-CoA  (16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4"/>
            <p:cNvSpPr/>
            <p:nvPr/>
          </p:nvSpPr>
          <p:spPr>
            <a:xfrm>
              <a:off x="5019480" y="6357600"/>
              <a:ext cx="164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Estearoil-CoA  (18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4"/>
          <p:cNvSpPr/>
          <p:nvPr/>
        </p:nvSpPr>
        <p:spPr>
          <a:xfrm>
            <a:off x="2433600" y="189000"/>
            <a:ext cx="43686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longación de 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47200" y="642960"/>
            <a:ext cx="6365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Calibri"/>
              </a:rPr>
              <a:t>Sistema microsomal (Retículo Endoplásmico l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alibri"/>
              </a:rPr>
              <a:t>(Es el más import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>
            <a:off x="611280" y="2781360"/>
            <a:ext cx="122400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290040" y="27637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1801bf"/>
                </a:solidFill>
                <a:latin typeface="Calibri"/>
              </a:rPr>
              <a:t>Elong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2907000" y="44290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980080" y="60040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5718960" y="434808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Deshidra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704520" y="1571760"/>
            <a:ext cx="5981760" cy="569520"/>
            <a:chOff x="704520" y="1571760"/>
            <a:chExt cx="5981760" cy="569520"/>
          </a:xfrm>
        </p:grpSpPr>
        <p:sp>
          <p:nvSpPr>
            <p:cNvPr id="71" name="Text Box 6"/>
            <p:cNvSpPr/>
            <p:nvPr/>
          </p:nvSpPr>
          <p:spPr>
            <a:xfrm>
              <a:off x="704520" y="177300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Palmitato (16C)   + CoA-SH +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5204160" y="177300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Palmito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"/>
            <p:cNvSpPr/>
            <p:nvPr/>
          </p:nvSpPr>
          <p:spPr>
            <a:xfrm>
              <a:off x="4081680" y="1571760"/>
              <a:ext cx="110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3300"/>
                  </a:solidFill>
                  <a:latin typeface="Calibri"/>
                </a:rPr>
                <a:t>Ti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Oval 17"/>
          <p:cNvSpPr/>
          <p:nvPr/>
        </p:nvSpPr>
        <p:spPr>
          <a:xfrm>
            <a:off x="5143680" y="1492200"/>
            <a:ext cx="1714320" cy="936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0"/>
          <p:cNvSpPr/>
          <p:nvPr/>
        </p:nvSpPr>
        <p:spPr>
          <a:xfrm>
            <a:off x="4068720" y="5516640"/>
            <a:ext cx="3075120" cy="1198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4 Rectángulo redondeado"/>
          <p:cNvSpPr/>
          <p:nvPr/>
        </p:nvSpPr>
        <p:spPr>
          <a:xfrm>
            <a:off x="2286000" y="3357720"/>
            <a:ext cx="100008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28 Conector recto de flecha"/>
          <p:cNvCxnSpPr/>
          <p:nvPr/>
        </p:nvCxnSpPr>
        <p:spPr>
          <a:xfrm>
            <a:off x="4214520" y="1998720"/>
            <a:ext cx="85788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30 CuadroTexto"/>
          <p:cNvSpPr/>
          <p:nvPr/>
        </p:nvSpPr>
        <p:spPr>
          <a:xfrm>
            <a:off x="7143840" y="1857240"/>
            <a:ext cx="2000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Activación del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Donación de 2C por 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Malon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Reducción Deshid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4bc30"/>
                </a:solidFill>
                <a:latin typeface="Calibri"/>
              </a:rPr>
              <a:t>NAPH</a:t>
            </a: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 dador de hidróg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23 CuadroTexto"/>
          <p:cNvSpPr/>
          <p:nvPr/>
        </p:nvSpPr>
        <p:spPr>
          <a:xfrm>
            <a:off x="7642800" y="285840"/>
            <a:ext cx="14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¿Cuále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las etap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9"/>
          <p:cNvSpPr/>
          <p:nvPr/>
        </p:nvSpPr>
        <p:spPr>
          <a:xfrm>
            <a:off x="2643120" y="3857760"/>
            <a:ext cx="928800" cy="434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9"/>
          <p:cNvSpPr/>
          <p:nvPr/>
        </p:nvSpPr>
        <p:spPr>
          <a:xfrm>
            <a:off x="2571840" y="5429160"/>
            <a:ext cx="1008000" cy="4352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3"/>
          <p:cNvGrpSpPr/>
          <p:nvPr/>
        </p:nvGrpSpPr>
        <p:grpSpPr>
          <a:xfrm>
            <a:off x="4870440" y="189000"/>
            <a:ext cx="4094280" cy="6408720"/>
            <a:chOff x="4870440" y="189000"/>
            <a:chExt cx="4094280" cy="6408720"/>
          </a:xfrm>
        </p:grpSpPr>
        <p:pic>
          <p:nvPicPr>
            <p:cNvPr id="83" name="Picture 18" descr="AAAAAAAAA"/>
            <p:cNvPicPr/>
            <p:nvPr/>
          </p:nvPicPr>
          <p:blipFill>
            <a:blip r:embed="rId1"/>
            <a:stretch/>
          </p:blipFill>
          <p:spPr>
            <a:xfrm>
              <a:off x="4870440" y="189000"/>
              <a:ext cx="4094280" cy="64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2"/>
            <p:cNvSpPr/>
            <p:nvPr/>
          </p:nvSpPr>
          <p:spPr>
            <a:xfrm>
              <a:off x="7430400" y="3637080"/>
              <a:ext cx="678960" cy="15264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1801bf"/>
                  </a:solidFill>
                  <a:latin typeface="Calibri"/>
                </a:rPr>
                <a:t>deshidra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"/>
          <p:cNvSpPr/>
          <p:nvPr/>
        </p:nvSpPr>
        <p:spPr>
          <a:xfrm>
            <a:off x="213480" y="0"/>
            <a:ext cx="2312640" cy="947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long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03760" y="114300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Calibri"/>
              </a:rPr>
              <a:t>Sistema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6877080" y="260280"/>
            <a:ext cx="122400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5148360" y="5011560"/>
            <a:ext cx="1366920" cy="417600"/>
          </a:xfrm>
          <a:prstGeom prst="ellipse">
            <a:avLst/>
          </a:prstGeom>
          <a:noFill/>
          <a:ln w="38160">
            <a:solidFill>
              <a:srgbClr val="04bc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9 CuadroTexto"/>
          <p:cNvSpPr/>
          <p:nvPr/>
        </p:nvSpPr>
        <p:spPr>
          <a:xfrm>
            <a:off x="2928960" y="79200"/>
            <a:ext cx="200016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Activación del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Donación de 2C por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 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Deshid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Calibri"/>
              </a:rPr>
              <a:t>NADH</a:t>
            </a: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 ó </a:t>
            </a:r>
            <a:r>
              <a:rPr b="1" lang="es-ES_tradnl" sz="1600" spc="-1" strike="noStrike">
                <a:solidFill>
                  <a:srgbClr val="04bc30"/>
                </a:solidFill>
                <a:latin typeface="Calibri"/>
              </a:rPr>
              <a:t>NAPH </a:t>
            </a: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dador de hidróg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6715440" y="3643200"/>
            <a:ext cx="155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Deshidratasa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6696360" y="2071800"/>
            <a:ext cx="1375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647400" y="5214960"/>
            <a:ext cx="1467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Reductasa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1"/>
          <p:cNvSpPr/>
          <p:nvPr/>
        </p:nvSpPr>
        <p:spPr>
          <a:xfrm>
            <a:off x="5143680" y="1928880"/>
            <a:ext cx="1366560" cy="4284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0"/>
          <p:cNvSpPr/>
          <p:nvPr/>
        </p:nvSpPr>
        <p:spPr>
          <a:xfrm>
            <a:off x="4929120" y="285840"/>
            <a:ext cx="1571760" cy="739800"/>
          </a:xfrm>
          <a:prstGeom prst="ellipse">
            <a:avLst/>
          </a:prstGeom>
          <a:noFill/>
          <a:ln w="38160">
            <a:solidFill>
              <a:srgbClr val="180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0"/>
          <p:cNvSpPr/>
          <p:nvPr/>
        </p:nvSpPr>
        <p:spPr>
          <a:xfrm>
            <a:off x="5143680" y="5786280"/>
            <a:ext cx="2714400" cy="785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6647040" y="1000080"/>
            <a:ext cx="71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Ti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46440" y="1857240"/>
            <a:ext cx="14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¿Cuále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las etap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4546440" cy="311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286160" y="2143080"/>
            <a:ext cx="479124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571920" y="2714760"/>
            <a:ext cx="1643040" cy="518040"/>
          </a:xfrm>
          <a:prstGeom prst="rect">
            <a:avLst/>
          </a:prstGeom>
          <a:solidFill>
            <a:srgbClr val="eb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3300"/>
                </a:solidFill>
                <a:latin typeface="Calibri"/>
              </a:rPr>
              <a:t>Δ</a:t>
            </a:r>
            <a:r>
              <a:rPr b="1" i="1" lang="en-US" sz="1800" spc="-1" strike="noStrike">
                <a:solidFill>
                  <a:srgbClr val="ff3300"/>
                </a:solidFill>
                <a:latin typeface="Calibri"/>
              </a:rPr>
              <a:t>9-Desatu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Calibri"/>
              </a:rPr>
              <a:t>(Fe-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20680" y="2357280"/>
            <a:ext cx="1514160" cy="487080"/>
          </a:xfrm>
          <a:prstGeom prst="rect">
            <a:avLst/>
          </a:prstGeom>
          <a:solidFill>
            <a:srgbClr val="eb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</a:rPr>
              <a:t>C16 palmito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</a:rPr>
              <a:t>C18  estear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51200" y="4143240"/>
            <a:ext cx="1948680" cy="730440"/>
          </a:xfrm>
          <a:prstGeom prst="rect">
            <a:avLst/>
          </a:prstGeom>
          <a:solidFill>
            <a:srgbClr val="eb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C16 </a:t>
            </a:r>
            <a:r>
              <a:rPr b="1" lang="el-GR" sz="1600" spc="-1" strike="noStrike">
                <a:solidFill>
                  <a:srgbClr val="c00000"/>
                </a:solidFill>
                <a:latin typeface="Calibri"/>
              </a:rPr>
              <a:t>Δ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9-palmitole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C18 </a:t>
            </a:r>
            <a:r>
              <a:rPr b="1" lang="en-US" sz="16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9-ole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CuadroTexto"/>
          <p:cNvSpPr/>
          <p:nvPr/>
        </p:nvSpPr>
        <p:spPr>
          <a:xfrm>
            <a:off x="4286160" y="220176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67440" y="142920"/>
            <a:ext cx="658008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Síntesis de Ácidos Grasos Monoinsa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Calibri"/>
              </a:rPr>
              <a:t>(En el RE Li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0 CuadroTexto"/>
          <p:cNvSpPr/>
          <p:nvPr/>
        </p:nvSpPr>
        <p:spPr>
          <a:xfrm>
            <a:off x="4354560" y="3643200"/>
            <a:ext cx="444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801bf"/>
                </a:solidFill>
                <a:latin typeface="Calibri"/>
              </a:rPr>
              <a:t>Desaturación de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en los VERTEB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801bf"/>
                </a:solidFill>
                <a:latin typeface="Calibri"/>
              </a:rPr>
              <a:t>Transferencia de electr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801bf"/>
                </a:solidFill>
                <a:latin typeface="Calibri"/>
              </a:rPr>
              <a:t>en la </a:t>
            </a:r>
            <a:r>
              <a:rPr b="1" lang="es-ES_tradnl" sz="2000" spc="-1" strike="noStrike">
                <a:solidFill>
                  <a:srgbClr val="e46c0a"/>
                </a:solidFill>
                <a:latin typeface="Calibri"/>
              </a:rPr>
              <a:t>membrana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Calibri"/>
              </a:rPr>
              <a:t>RE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En</a:t>
            </a: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 PLAN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ocurre en el </a:t>
            </a:r>
            <a:r>
              <a:rPr b="1" lang="es-ES_tradnl" sz="2000" spc="-1" strike="noStrike">
                <a:solidFill>
                  <a:srgbClr val="31859c"/>
                </a:solidFill>
                <a:latin typeface="Calibri"/>
              </a:rPr>
              <a:t>estroma del cloropla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con una </a:t>
            </a: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Estearil-Desatu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y Ferredoxina como dador de elect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Elipse"/>
          <p:cNvSpPr/>
          <p:nvPr/>
        </p:nvSpPr>
        <p:spPr>
          <a:xfrm>
            <a:off x="0" y="114300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CuadroTexto"/>
          <p:cNvSpPr/>
          <p:nvPr/>
        </p:nvSpPr>
        <p:spPr>
          <a:xfrm>
            <a:off x="1604880" y="3049560"/>
            <a:ext cx="83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s-ES" sz="1400" spc="-1" strike="noStrike" baseline="-25000">
                <a:solidFill>
                  <a:srgbClr val="c00000"/>
                </a:solidFill>
                <a:latin typeface="Arial"/>
              </a:rPr>
              <a:t>10</a:t>
            </a: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" sz="1400" spc="-1" strike="noStrike" u="sng">
                <a:solidFill>
                  <a:srgbClr val="c00000"/>
                </a:solidFill>
                <a:uFillTx/>
                <a:latin typeface="Arial"/>
              </a:rPr>
              <a:t>--</a:t>
            </a: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 C</a:t>
            </a:r>
            <a:r>
              <a:rPr b="1" lang="es-ES" sz="1400" spc="-1" strike="noStrike" baseline="-25000">
                <a:solidFill>
                  <a:srgbClr val="c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6929280" y="1711440"/>
            <a:ext cx="21798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Síntesis de Ac. Grasos de cadena larga (18C y m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á</a:t>
            </a: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de Ac. Grasos 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2482920" y="49320"/>
            <a:ext cx="4394160" cy="6619680"/>
            <a:chOff x="2482920" y="49320"/>
            <a:chExt cx="4394160" cy="6619680"/>
          </a:xfrm>
        </p:grpSpPr>
        <p:grpSp>
          <p:nvGrpSpPr>
            <p:cNvPr id="110" name="Group 24"/>
            <p:cNvGrpSpPr/>
            <p:nvPr/>
          </p:nvGrpSpPr>
          <p:grpSpPr>
            <a:xfrm>
              <a:off x="2484360" y="49320"/>
              <a:ext cx="4110120" cy="6619680"/>
              <a:chOff x="2484360" y="49320"/>
              <a:chExt cx="4110120" cy="6619680"/>
            </a:xfrm>
          </p:grpSpPr>
          <p:pic>
            <p:nvPicPr>
              <p:cNvPr id="111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4360" y="189000"/>
                <a:ext cx="4110120" cy="648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23" descr="PALMITAC"/>
              <p:cNvPicPr/>
              <p:nvPr/>
            </p:nvPicPr>
            <p:blipFill>
              <a:blip r:embed="rId2"/>
              <a:stretch/>
            </p:blipFill>
            <p:spPr>
              <a:xfrm>
                <a:off x="2629080" y="49320"/>
                <a:ext cx="3455640" cy="66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AutoShape 5"/>
            <p:cNvSpPr/>
            <p:nvPr/>
          </p:nvSpPr>
          <p:spPr>
            <a:xfrm>
              <a:off x="6588000" y="476280"/>
              <a:ext cx="289080" cy="6121440"/>
            </a:xfrm>
            <a:custGeom>
              <a:avLst/>
              <a:gdLst>
                <a:gd name="textAreaLeft" fmla="*/ 0 w 289080"/>
                <a:gd name="textAreaRight" fmla="*/ 202680 w 289080"/>
                <a:gd name="textAreaTop" fmla="*/ 254880 h 6121440"/>
                <a:gd name="textAreaBottom" fmla="*/ 5866560 h 612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716360" y="808200"/>
              <a:ext cx="14400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2916360" y="203184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2916360" y="299736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2556000" y="426420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4788000" y="429264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435640" y="5805360"/>
              <a:ext cx="14400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5435640" y="5157720"/>
              <a:ext cx="12240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Comic Sans MS"/>
                </a:rPr>
                <a:t>Elong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4788000" y="181620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Comic Sans MS"/>
                </a:rPr>
                <a:t>Elong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2916360" y="105264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Comic Sans MS"/>
                </a:rPr>
                <a:t>Elong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2482920" y="4508640"/>
              <a:ext cx="1368360" cy="2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8000"/>
                  </a:solidFill>
                  <a:latin typeface="Comic Sans MS"/>
                </a:rPr>
                <a:t>(Solo en planta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8"/>
            <p:cNvSpPr/>
            <p:nvPr/>
          </p:nvSpPr>
          <p:spPr>
            <a:xfrm>
              <a:off x="2916360" y="3284640"/>
              <a:ext cx="13683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8000"/>
                  </a:solidFill>
                  <a:latin typeface="Comic Sans MS"/>
                </a:rPr>
                <a:t>(Solo en planta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2"/>
          <p:cNvGrpSpPr/>
          <p:nvPr/>
        </p:nvGrpSpPr>
        <p:grpSpPr>
          <a:xfrm>
            <a:off x="395280" y="3933720"/>
            <a:ext cx="3456000" cy="1224000"/>
            <a:chOff x="395280" y="3933720"/>
            <a:chExt cx="3456000" cy="1224000"/>
          </a:xfrm>
        </p:grpSpPr>
        <p:sp>
          <p:nvSpPr>
            <p:cNvPr id="126" name="Text Box 19"/>
            <p:cNvSpPr/>
            <p:nvPr/>
          </p:nvSpPr>
          <p:spPr>
            <a:xfrm>
              <a:off x="395280" y="4319640"/>
              <a:ext cx="1655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Comic Sans MS"/>
                </a:rPr>
                <a:t>Acidos gr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Comic Sans MS"/>
                </a:rPr>
                <a:t>Esenc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Comic Sans MS"/>
                </a:rPr>
                <a:t>(mamífer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0"/>
            <p:cNvSpPr/>
            <p:nvPr/>
          </p:nvSpPr>
          <p:spPr>
            <a:xfrm flipV="1">
              <a:off x="2050920" y="3933720"/>
              <a:ext cx="180036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>
              <a:off x="2050920" y="4724280"/>
              <a:ext cx="9367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22 Rectángulo"/>
          <p:cNvSpPr/>
          <p:nvPr/>
        </p:nvSpPr>
        <p:spPr>
          <a:xfrm>
            <a:off x="4714920" y="785880"/>
            <a:ext cx="14288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3 Rectángulo"/>
          <p:cNvSpPr/>
          <p:nvPr/>
        </p:nvSpPr>
        <p:spPr>
          <a:xfrm>
            <a:off x="2928960" y="2000160"/>
            <a:ext cx="14288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4 Rectángulo"/>
          <p:cNvSpPr/>
          <p:nvPr/>
        </p:nvSpPr>
        <p:spPr>
          <a:xfrm>
            <a:off x="3000240" y="928800"/>
            <a:ext cx="1214640" cy="50004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5 Rectángulo"/>
          <p:cNvSpPr/>
          <p:nvPr/>
        </p:nvSpPr>
        <p:spPr>
          <a:xfrm>
            <a:off x="4857840" y="1714680"/>
            <a:ext cx="1214280" cy="35712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6 Rectángulo"/>
          <p:cNvSpPr/>
          <p:nvPr/>
        </p:nvSpPr>
        <p:spPr>
          <a:xfrm>
            <a:off x="2928960" y="3000240"/>
            <a:ext cx="1428840" cy="6429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43 Rectángulo"/>
          <p:cNvSpPr/>
          <p:nvPr/>
        </p:nvSpPr>
        <p:spPr>
          <a:xfrm>
            <a:off x="2428920" y="4214880"/>
            <a:ext cx="1571760" cy="5713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4 Rectángulo"/>
          <p:cNvSpPr/>
          <p:nvPr/>
        </p:nvSpPr>
        <p:spPr>
          <a:xfrm>
            <a:off x="4786200" y="4143240"/>
            <a:ext cx="1571760" cy="5716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6 Rectángulo"/>
          <p:cNvSpPr/>
          <p:nvPr/>
        </p:nvSpPr>
        <p:spPr>
          <a:xfrm>
            <a:off x="5429160" y="5786280"/>
            <a:ext cx="1571760" cy="357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1 Rectángulo"/>
          <p:cNvSpPr/>
          <p:nvPr/>
        </p:nvSpPr>
        <p:spPr>
          <a:xfrm>
            <a:off x="5429160" y="5072040"/>
            <a:ext cx="1214640" cy="35712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CuadroTexto"/>
          <p:cNvSpPr/>
          <p:nvPr/>
        </p:nvSpPr>
        <p:spPr>
          <a:xfrm>
            <a:off x="0" y="642924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5ª Edic. 2009– Cap 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929200" y="6429240"/>
            <a:ext cx="128592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7215120" y="5857920"/>
            <a:ext cx="1656000" cy="8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Acido g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omic Sans MS"/>
              </a:rPr>
              <a:t>parcialmente</a:t>
            </a: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-esencial para mamíf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F4C4-6614-48D8-B054-5281EED5088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2 Rectángulo"/>
          <p:cNvSpPr/>
          <p:nvPr/>
        </p:nvSpPr>
        <p:spPr>
          <a:xfrm>
            <a:off x="108000" y="122400"/>
            <a:ext cx="8712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Los 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vegetales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 tienen las enzimas necesarias para producir insaturaciones desde la posición 9 del ácido graso hacia el carbono</a:t>
            </a:r>
            <a:r>
              <a:rPr b="1" lang="es-AR" sz="2400" spc="-1" strike="noStrike">
                <a:solidFill>
                  <a:srgbClr val="1801bf"/>
                </a:solidFill>
                <a:latin typeface="OpenSymbol"/>
                <a:ea typeface="OpenSymbol"/>
              </a:rPr>
              <a:t> </a:t>
            </a:r>
            <a:r>
              <a:rPr b="1" lang="es-AR" sz="2400" spc="-1" strike="noStrike">
                <a:solidFill>
                  <a:srgbClr val="1801bf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1801bf"/>
                </a:solidFill>
                <a:latin typeface="OpenSymbol"/>
                <a:ea typeface="OpenSymbol"/>
              </a:rPr>
              <a:t> 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(metilo termin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Por ejemplo, a partir del ácido oleico pueden sintetizar los ácidos: 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linoleico (18:2, </a:t>
            </a:r>
            <a:r>
              <a:rPr b="1" lang="es-AR" sz="2400" spc="-1" strike="noStrike">
                <a:solidFill>
                  <a:srgbClr val="04bc3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9,12) y linolénico (18:3, </a:t>
            </a:r>
            <a:r>
              <a:rPr b="1" lang="es-AR" sz="2400" spc="-1" strike="noStrike">
                <a:solidFill>
                  <a:srgbClr val="04bc3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 9,12,15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Los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mamíferos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 no pueden sintetizarlos y por ello se consideran a los mismos,  </a:t>
            </a:r>
            <a:r>
              <a:rPr b="1" i="1" lang="es-AR" sz="2400" spc="-1" strike="noStrike">
                <a:solidFill>
                  <a:srgbClr val="04bc30"/>
                </a:solidFill>
                <a:latin typeface="Arial"/>
              </a:rPr>
              <a:t>ácidos grasos esenciales 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debiendo ser provistos por la di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El ácido araquidónico (20:4 </a:t>
            </a:r>
            <a:r>
              <a:rPr b="1" lang="es-AR" sz="2400" spc="-1" strike="noStrike">
                <a:solidFill>
                  <a:srgbClr val="1801bf"/>
                </a:solidFill>
                <a:latin typeface="Symbol"/>
                <a:ea typeface="Symbol"/>
              </a:rPr>
              <a:t>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8, 11, 14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) es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cialmente 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indispensable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 ya que el organismo puede sintetizarlo si dispone de ácido linole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animales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 la nueva doble unión se introduce en la porción de cadena proximal  al grupo carboxilo </a:t>
            </a:r>
            <a:r>
              <a:rPr b="1" i="1" lang="es-AR" sz="2400" spc="-1" strike="noStrike">
                <a:solidFill>
                  <a:srgbClr val="e46c0a"/>
                </a:solidFill>
                <a:latin typeface="Arial"/>
              </a:rPr>
              <a:t>(</a:t>
            </a:r>
            <a:r>
              <a:rPr b="1" i="1" lang="el-GR" sz="2400" spc="-1" strike="noStrike">
                <a:solidFill>
                  <a:srgbClr val="ff33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ff3300"/>
                </a:solidFill>
                <a:latin typeface="Calibri"/>
              </a:rPr>
              <a:t>9, </a:t>
            </a:r>
            <a:r>
              <a:rPr b="1" i="1" lang="el-GR" sz="2400" spc="-1" strike="noStrike">
                <a:solidFill>
                  <a:srgbClr val="ff33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ff3300"/>
                </a:solidFill>
                <a:latin typeface="Calibri"/>
              </a:rPr>
              <a:t>6 y </a:t>
            </a:r>
            <a:r>
              <a:rPr b="1" i="1" lang="el-GR" sz="2400" spc="-1" strike="noStrike">
                <a:solidFill>
                  <a:srgbClr val="ff3300"/>
                </a:solidFill>
                <a:latin typeface="Calibri"/>
              </a:rPr>
              <a:t> Δ</a:t>
            </a:r>
            <a:r>
              <a:rPr b="1" i="1" lang="en-US" sz="2400" spc="-1" strike="noStrike">
                <a:solidFill>
                  <a:srgbClr val="ff3300"/>
                </a:solidFill>
                <a:latin typeface="Calibri"/>
              </a:rPr>
              <a:t>5 desatura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3E68-0166-4A30-B2E9-996D34A598C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2 CuadroTexto"/>
          <p:cNvSpPr/>
          <p:nvPr/>
        </p:nvSpPr>
        <p:spPr>
          <a:xfrm>
            <a:off x="179280" y="0"/>
            <a:ext cx="896472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4bc30"/>
                </a:solidFill>
                <a:latin typeface="Arial"/>
              </a:rPr>
              <a:t>Acidos Grasos POLI-INSATU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FUNCIONES BIOLOG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-   SON AG </a:t>
            </a:r>
            <a:r>
              <a:rPr b="1" lang="es-AR" sz="2000" spc="-1" strike="noStrike">
                <a:solidFill>
                  <a:srgbClr val="04bc30"/>
                </a:solidFill>
                <a:latin typeface="Arial"/>
              </a:rPr>
              <a:t>ESENCIALES</a:t>
            </a: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 EN MAMÍF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INTEGRAN LÍPIDOS ESTRUCTURALES EN LAS CÉLULAS </a:t>
            </a:r>
            <a:r>
              <a:rPr b="1" lang="es-AR" sz="2000" spc="-1" strike="noStrike">
                <a:solidFill>
                  <a:srgbClr val="1801b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 MEMBR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SON PRECURSORES DE PROSTAGLANDINAS (constricción/dilatación muscular lisa de bronquios y vasos)  TROMBOXANOS (agregantes de plaquetas) y LEUCOTRIENOS (constricción de bronquio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PARTICIPAN EN LA FORMACIÓN DE LOS ÉSTERES DE COLESTEROL EN PLASMA SANGUÍN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SU CONSUMO CONTINUADO Y EN PROPORCIÓN ADECUADA EN LA DIETA</a:t>
            </a:r>
            <a:r>
              <a:rPr b="1" lang="es-AR" sz="2000" spc="-1" strike="noStrike">
                <a:solidFill>
                  <a:srgbClr val="1801b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 DISMINUYE LDL y COLESTEROL PLAS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68200" y="2928960"/>
            <a:ext cx="88045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11280" y="1341360"/>
            <a:ext cx="7704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1- BLANCO A., “Química Biológica”, Ed. El Ateneo, 8a edic., Bs. As. (200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06:12:29Z</dcterms:created>
  <dc:creator>ali y facu</dc:creator>
  <dc:description/>
  <dc:language>en-US</dc:language>
  <cp:lastModifiedBy>ali y facu</cp:lastModifiedBy>
  <dcterms:modified xsi:type="dcterms:W3CDTF">2018-05-24T17:17:12Z</dcterms:modified>
  <cp:revision>3</cp:revision>
  <dc:subject/>
  <dc:title>Diapositiva 1</dc:title>
</cp:coreProperties>
</file>